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598-AA68-4AE1-900F-F11498CD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8BB-016D-4FDF-8442-A8BAB31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05098-B5D9-4AF6-84EA-0934C01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2D300-6195-43BD-82E8-CD3CA0C0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1DD3-86B1-4EA4-887E-CF4915B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79F19-B069-4DAC-B834-EC55CC4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C4C00-F817-4BEB-80F6-8978B30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34858-C286-4631-AD81-8332AF4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7DE1D-0E6E-4D5F-9976-E773ACE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06E77-B124-4E2C-9608-AA9ECD35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E0B36-5551-4346-B306-5CA3F12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5A0C9-831D-4ABF-B97B-2D944A24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8BD-640F-4AD0-A359-0A9F90FD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93C7F-03BB-40CA-A66A-3E362DE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146C2-C45C-4015-86F0-DEC7C36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EADE9-90A8-436D-9790-3E286F8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626CD-4454-4893-A179-8A6CCE2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EE021-41CA-4D3E-9322-19468590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6BF4C-CDE4-4E0A-948A-235DC6B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DC130-8315-4372-BF74-DDDFC9D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973CD-AE5E-479F-BCF3-3ED4DF8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AC4F9-911D-4B02-8016-ADC201A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F1B2F-CCCA-484A-8AF0-6AC03BA5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527-10B3-47CA-AC9B-BB630878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B62F8-DB49-4CD2-9515-C4C78870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E29F53-6DA0-4B2B-A6DF-8DAFED43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65C4E8-50A6-426A-8F0B-B90A7A7F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05879E-730F-48DA-9C09-8E344D3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A9B3CB-A478-4B9B-B1E8-FDC731EE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CD3906-7A66-4A61-94C2-50D035D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DDF137-6381-4E79-8471-BED8278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875AB6-CFF4-4DD0-AA3F-52EC869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D04C3E-0F70-439E-AD12-439CAFA1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949C82-5D49-4DE6-B371-CA04C55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5844C6-55B6-4B3C-8C72-D50EF552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BD353C-C496-414B-BB46-FAE9FFF9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E051C1-CAC7-4761-A6E8-BAD07689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C4C99-5C3A-4CC9-9B50-B0D895C7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61678-AFBB-433F-B495-0BD3397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D74AC-67A7-41A6-AC83-FD4E9B3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0053F-F7EF-48B1-8D78-73BC31E6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A7E94-E2A2-42CC-9921-EF2F0B9E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332F1-1A7E-4257-8E41-BFEA061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A0E93-6C27-4BFA-A53C-1D5F1B2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5F1DA-A569-4E86-B9FA-5C40AC7C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6EA2D-5CBD-47DE-B117-1300564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1A80D-E3FE-4018-9E0B-BFAFE7A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C92FC-6A5C-425E-BEF5-378A6617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24DC0-42E1-48C2-A373-E5137120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F41AB1-5F57-458B-902B-177203EF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C2B77F-92C3-477A-BCC0-95C26AE4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76EBDA-AB50-466C-912A-730F73B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D88B98-907C-470A-AAC6-D2A0C988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70D6DB-46CE-4F71-9D4E-4BC11E7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78318D-3321-4BF1-8626-AE391F5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E4FAA3-2509-4298-9EFC-36B9257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297E32-5548-4BBD-B1A4-A051B931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8734AE-4AB9-4A35-9215-C4A7DDB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A23B8D-EEA3-4101-B249-198DE2E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D76587-F76C-4B10-B6E3-4563973E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3F59E2-F08F-42B1-93A9-96723537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8315D-EA3C-4694-BD14-A2C8D1AD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FF7AE-C6B1-4BD3-B538-C8959EEE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E82D3-219C-4098-95C8-E0C0B6B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4DCD0-D5C7-45E2-9388-60B1E7D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7740A-4EC5-49DB-84B3-27B427AB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23DDA-0FD2-4E18-B4F8-6F044933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97B7C-8862-4171-B5C4-12DE262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6E592-5E1F-4BB0-A361-6D0BD9B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8E0FF-E58C-4B25-85C5-F0E227F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9C54F-E2B8-44DF-BA32-5F88686B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E516C-F0FE-4FBE-9E0A-E6B876D2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4586F-6B42-4E62-B224-2E371C7B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B1F9B-BD83-4827-A58D-CC5E27D1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CCD45-3CB4-4F7B-AD7E-976CFC14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C3C5C-26A1-4EE2-ADB9-52EB71B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B8DDF-D5FA-4C4E-AB04-15698F55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AAFAE-1DC0-43F6-8AE9-65FFBC1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380B7-25F6-4B1A-AB2C-719A25CC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6A281-90DE-4265-8D11-5907DF5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89A3E-44A9-4723-BA2D-19BC818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82B12-D27E-45FC-9238-66AF88A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28F62-5F3B-416B-82DA-9CBC758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85D6A-7B90-4AD4-8F7C-9C5A0B10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5C6A9-8097-43C3-A056-641C1CC0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A1BEE-9190-4073-B550-72BA8EA6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DC623-DA15-411E-9672-C044B4F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FD856-53F6-4CF1-8E60-51B89951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9921A-EAE2-47BB-8DC1-1F07B452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388AC-B31C-470F-863E-3C4D7B86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7757B-6B09-447F-8A73-788B5D2D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B7D76-4154-47BE-B781-B1AA85A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248-B494-453F-80F4-1CD34CCE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06955-2B45-49A6-8A4C-9D4DB164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A624C-E3E5-45AE-BA38-75A06D2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4DC45-ACA7-4B12-B019-413F98E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C60B7-099E-4D73-A91B-BF34B3F5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67EF9-9FE2-4FCE-B332-5EE26ACE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2F705-A32A-49B5-B69F-5ADACDDE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8FE91-4604-4A97-A180-FE60455A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A43CB-F6B5-4067-A5BD-DDD587F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DC6EB-8BF3-4375-AD67-A1020782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C7065-3C6C-4016-9914-ED3D665F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63852-5FC9-4FA3-8912-A23E7FD2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C8B97-6330-40F0-9AAF-4429916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809F7-44A8-4461-A30D-1F08F78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BA99F-732A-42AE-9C08-CD04839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E5B0E-A82C-481D-9888-FB3C8B7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063E2-7BBA-4D74-A5B7-F8871060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743AD-BE4F-4761-9295-0755AB02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3D68F-7DD6-4A21-AA03-C5CBAEA2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53923-8C9A-45C9-88B0-69D26FD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2704D-EE22-4D98-832F-2D2840C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3F63E-6C9D-4CE7-AF1C-688497D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3E0CF-D1E5-4BD6-BC5A-14B8520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2F0E0-F244-4CD2-AEB6-D232D67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6587F-064E-4496-B7EC-40FDFB4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8F335-6DB3-4EB4-AF30-44ACB9AB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EC129-5857-4973-8089-06058A2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6165A-B95D-4B1D-9856-050D13AB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2C79D-2296-4E2F-BD51-B98E978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F6421-B452-4625-9EE1-FB52181C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C2BE2-D9C8-4272-81DB-9E9C17BB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49DB9-7BEE-42EE-89F2-25904D85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67A09-863C-4C03-9AB9-56C23790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ACCFD-BD1B-46A6-85B9-C2C9D4FE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683AF-D7AC-4480-9431-76501BB1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41D8D-482D-4F32-858A-B3CB5217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4DC63-C4A0-4978-BE53-3CCBB60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BDD51-F9F9-44F1-9A08-768550B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1CCCD-B6A5-4450-BC60-97D0A507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ED412-1B57-41A7-8CC5-DBF384B2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C4D00-49F7-4179-B10A-9502C423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D2E53-A130-4009-AF10-AF265BDD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1E1A4-7852-4049-B8C1-8BB44F0B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8379F-D951-48FB-A0F7-EABA744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05C13-4558-46A8-8FD1-F7DF689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A4AFE-228B-439F-B1B8-67B03A1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24262-A5B3-4771-A2DB-720B061D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B77E9-D332-4F60-9BDE-0A96365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6A4FB-7E06-4393-B4C7-E49469B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14740-BD5E-4E0F-8B0A-AA7D580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4C418-190B-4AD6-83A2-7F4BF7E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B0517-FFD0-4475-905B-B70FC130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83EC0-91EA-40A2-9891-703C78A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DAD8D-3AC8-407F-9EB1-DFD0D0B1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2EEE0-2EB9-4C7C-BCE7-C5A9240B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44849-F933-4D11-B3B9-B69FCA0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74D91-C368-48E9-A5A4-100FA24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7A30B-192E-40F3-863E-A4E7471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E92D9-7383-4C27-B38E-4406F4E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6B4-D8AF-4808-9D59-4B6D197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AEAC2-EC1B-4896-87C4-64F7A7D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83568-8F74-4D19-B250-F1DA617D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950B7-325B-44A6-90E0-7874ACF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C9AD0-DF4F-48D1-9833-6FDB2B5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0FF47-C760-4218-BE0D-2360324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CC4E9-57A0-48DA-A49E-FF75EF84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DA370-BD0B-4F97-9108-9CF3C8FA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B5791-E168-41E3-8E60-8490F3B8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090E9-E706-4986-AE25-B6320DE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24E8B-445B-4916-B447-EA8633B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FDA-7F1F-4A3F-B900-99A20BB7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FA1D1-98E8-423D-9BFD-CB2AFDC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71EBF-424A-433C-99B7-013384A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E6B9E-3B78-4E16-B4B2-D1EC1786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93F35-5AB8-4F0D-ACE7-27F9122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B840B-6DF0-49B2-9457-BC4D5DB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867CA-B104-4B99-BDB5-176C02E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61BDF-26B6-4865-8E78-3A9FDB87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98ECC-42EC-4813-A325-D722760A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39D64-FBD0-47D3-842C-81077277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A6E-082E-4D4B-BEB1-B78A6B66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12F-6D50-4917-BE13-ED3FF55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CAEBB-A470-4C7A-BC92-7E661D04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19BCD-98C9-4C06-B60C-181AAD7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A10E38-5BF8-4AA5-A821-8290C531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27C669-58EB-4993-B0A7-93DE00B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2B500-1391-4694-8FA4-A398F4A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B34C0-267D-471B-9D61-73CBACAB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0EAE6-0330-46C0-B054-3D8412F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5D70D-B441-4EDA-9539-F953962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898F5-5F49-4FF6-8A03-AF73A30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DAE-6CB8-4952-90D8-B1B1573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322AB-E4EC-4A9A-ADF0-3197282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90F5B-E9B0-4245-ADF8-96503EED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430DF-4816-424C-A754-9B65F66A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B3842-4BA8-4190-8F39-2C1A9958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8FD351-0E66-4F95-B069-3AEA17F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C805A5-263E-4062-B2AE-28064681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CE8E5-B59E-4E15-B327-EC9FCF39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8D462A-A182-467A-86CC-07643CA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4B438A-7BCA-4BE4-A22D-511FC5D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7AD3A0-A6A3-4960-ABAE-37AFB17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E17-1B22-4B82-B975-529A1DD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55538-055D-4B1A-8706-C79FEEF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970F1A-91D0-4D55-B990-F29EEA9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EB29E5-BAE8-4C5D-99A1-7626EB52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F0647D-5AE3-4848-9211-D7D3B18D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1699B-334D-4D20-ABEA-3570AAC7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2487F-784F-47D6-8958-20CF9528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F6D4F-7F8E-4112-9EA3-66AC7098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96964-1933-4F72-8257-6BA3A8A2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306BB2-4A6A-444E-A6E1-8D6F8D5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A92BB8-3F7B-4E50-B4E5-31239359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63F-57E7-4235-8A57-146C87A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F8234D-BA2C-4304-9869-F1E1887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3A2031-1430-45CC-957F-D07D523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035D32-3BFF-4900-B7A5-4803ECC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E8851-913E-4687-B1F3-B4557C6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90E32-194B-4D57-A583-8ACE9E1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7FEB41-C46F-48EE-A582-31CAC51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939C5-6064-4542-8E28-6D5D85A7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E8745-0A42-434E-B458-D829CED8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499F6-714A-463E-9BC7-1ED7526B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A07E9-0CF9-405E-AA74-C1204F18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597CE-A0A6-4159-856E-C6F7DABD9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F923B-39C9-4260-AAF5-5B65DAD8D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CB9A9-0C7C-4646-9204-0C4561875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F3328-6CCA-4E69-9C53-00EAAEAA9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70AD-A15B-4A28-98A7-4C016E602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8BF16-4B9A-47A0-92E1-5055CB464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0FC33-E6B3-4215-8A2F-B862987F3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FB0E9-E22C-437D-8D3B-7F39A5FCF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6249-800F-476C-8031-4B182EEF3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489CF-DDF5-47D1-9CDD-8FADB8247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40883-3D66-4199-ABF7-3FAD39A80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51A69-AD21-41A9-AD8E-664044D8C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B0698-3118-4115-BA30-24C06A142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D70CE-F220-4F9B-AF8E-D790F9151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6C354-6D88-4A08-BE5E-5B525287F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B9B73-6487-49A5-9E65-0466E3947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9CE72-BE0F-4597-BBC2-EFDAA9570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FB612-17B5-4244-B17C-85D1204A7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Conjunction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For ELS by Katy SALGADO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SPECIFIC TO THE STUDENTS AT INTERMEDIATE LEVEL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To Camptown Ladies and Old McDonald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TextBox 3"/>
          <p:cNvSpPr/>
          <p:nvPr/>
        </p:nvSpPr>
        <p:spPr>
          <a:xfrm>
            <a:off x="2178000" y="14209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5517360" y="13539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7421040" y="1587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SINC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5" name="TextBox 6"/>
          <p:cNvSpPr/>
          <p:nvPr/>
        </p:nvSpPr>
        <p:spPr>
          <a:xfrm>
            <a:off x="5536080" y="33084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6" name="TextBox 7"/>
          <p:cNvSpPr/>
          <p:nvPr/>
        </p:nvSpPr>
        <p:spPr>
          <a:xfrm>
            <a:off x="7098480" y="3643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LTHOUGH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 So I slept. So I slept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, so she ate, so 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 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80520" y="1111320"/>
            <a:ext cx="32562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168800" y="352440"/>
            <a:ext cx="45972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ate.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took Marley to the beach. Now we’re having fun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 Now………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80520" y="1539360"/>
            <a:ext cx="32562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t was ho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3" name="TextBox 8"/>
          <p:cNvSpPr/>
          <p:nvPr/>
        </p:nvSpPr>
        <p:spPr>
          <a:xfrm>
            <a:off x="2790720" y="5378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 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80520" y="917640"/>
            <a:ext cx="32562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ffect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aus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 was tired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 </a:t>
            </a:r>
            <a:r>
              <a:rPr b="0" lang="en-US" sz="2400" spc="-1" strike="noStrike">
                <a:solidFill>
                  <a:srgbClr val="262626"/>
                </a:solidFill>
                <a:latin typeface="Rockwell"/>
              </a:rPr>
              <a:t>s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he was hungry.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          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80520" y="917640"/>
            <a:ext cx="32562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slept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slept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ate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  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2601000"/>
            <a:ext cx="3254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168800" y="272520"/>
            <a:ext cx="45972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3256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8:58:17Z</dcterms:created>
  <dc:creator>City School</dc:creator>
  <dc:description/>
  <dc:language>en-US</dc:language>
  <cp:lastModifiedBy>122790</cp:lastModifiedBy>
  <dcterms:modified xsi:type="dcterms:W3CDTF">2011-07-07T21:22:41Z</dcterms:modified>
  <cp:revision>13</cp:revision>
  <dc:subject/>
  <dc:title>Conjunctions</dc:title>
</cp:coreProperties>
</file>